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236-30F4-45A4-B38A-A5A818F9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D55-AFE6-4715-B7D3-6EDBE435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CF0-FE13-4DBB-A89C-4676DF8F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E0D-967E-4A91-89E9-F167B785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CC2-044F-495B-8CC7-3A97AE15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BF8-3A45-471A-814D-24EC9839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AA3-A8F8-490C-B72D-44FF8DC5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14E-02E6-4FF7-B9D8-7AF2D206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7F2-9FED-4E16-A0DC-CC2DA5CC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20F-34BC-40B5-8B30-D8B79124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DAA-BB9B-46E4-95F4-DD2A9FF4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23F-0B03-4A13-9DFD-062D694D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418B-2AA7-43B2-9C32-E473B3E59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0000"/>
                </a:solidFill>
                <a:latin typeface="Arial"/>
                <a:ea typeface="標楷體"/>
              </a:rPr>
              <a:t>教 師 會 報 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99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Arial"/>
                <a:ea typeface="標楷體"/>
              </a:rPr>
              <a:t>報告人：王怡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標楷體"/>
              </a:rPr>
              <a:t>101/08/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360" y="20606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一導：   方淑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導：   方淑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導：   李清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專任：陳建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國中部行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體育辦公室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楊美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906440" y="1988640"/>
            <a:ext cx="3816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辦公室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林文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辦公室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謝依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高中部行政      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王怡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46836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101</a:t>
            </a: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學年上學期</a:t>
            </a:r>
            <a:br>
              <a:rPr sz="3600"/>
            </a:b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第</a:t>
            </a:r>
            <a:r>
              <a:rPr b="1" lang="en-US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屆教師會各辦公室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76000" y="1288800"/>
            <a:ext cx="806436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理 事 長：王怡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常務理事：李清波老師、林文杰老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理    事：方淑貞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活動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陳建國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研究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楊美惠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總務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黃文財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公關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謝依萍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行政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陳靜誼老師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文書組</a:t>
            </a:r>
            <a:r>
              <a:rPr b="1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常務監事：江櫻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監事：吳銘川、高建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46836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101</a:t>
            </a: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學年上學期</a:t>
            </a:r>
            <a:br>
              <a:rPr sz="3600"/>
            </a:b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第</a:t>
            </a:r>
            <a:r>
              <a:rPr b="1" lang="en-US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12</a:t>
            </a: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屆教師會理監事成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cc"/>
                </a:solidFill>
                <a:latin typeface="標楷體"/>
                <a:ea typeface="標楷體"/>
              </a:rPr>
              <a:t>年會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5899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章程規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舊會員：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贊助會員：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新會員入會費：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工會年費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------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→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6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本校教師會年費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→</a:t>
            </a:r>
            <a:r>
              <a:rPr b="1" lang="en-GB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00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元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66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收費方式：會員簽名授權後，從薪資扣取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左大括弧 1"/>
          <p:cNvSpPr/>
          <p:nvPr/>
        </p:nvSpPr>
        <p:spPr>
          <a:xfrm>
            <a:off x="1258920" y="414972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720720"/>
              <a:gd name="textAreaBottom" fmla="*/ 7153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"/>
                  <a:pt x="10800" y="539"/>
                </a:cubicBezTo>
                <a:lnTo>
                  <a:pt x="10800" y="10261"/>
                </a:lnTo>
                <a:cubicBezTo>
                  <a:pt x="10800" y="10531"/>
                  <a:pt x="5400" y="10800"/>
                  <a:pt x="0" y="10800"/>
                </a:cubicBezTo>
                <a:cubicBezTo>
                  <a:pt x="5400" y="10800"/>
                  <a:pt x="10800" y="11070"/>
                  <a:pt x="10800" y="11339"/>
                </a:cubicBezTo>
                <a:lnTo>
                  <a:pt x="10800" y="21061"/>
                </a:lnTo>
                <a:cubicBezTo>
                  <a:pt x="10800" y="213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9"/>
          <p:cNvSpPr/>
          <p:nvPr/>
        </p:nvSpPr>
        <p:spPr>
          <a:xfrm>
            <a:off x="5448240" y="4076640"/>
            <a:ext cx="1295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華康儷中黑"/>
                <a:ea typeface="華康儷中黑"/>
              </a:rPr>
              <a:t>訴訟基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5:46:18Z</dcterms:created>
  <dc:creator>User</dc:creator>
  <dc:description/>
  <dc:language>en-US</dc:language>
  <cp:lastModifiedBy>aa8832</cp:lastModifiedBy>
  <dcterms:modified xsi:type="dcterms:W3CDTF">2012-08-31T03:33:37Z</dcterms:modified>
  <cp:revision>33</cp:revision>
  <dc:subject/>
  <dc:title>投影片 1</dc:title>
</cp:coreProperties>
</file>